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FA3-A49E-43C8-BDB0-BC1BDBBE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8EE-9E8D-40CC-8002-C00DB9A3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05F-C268-4D20-8451-C09905F3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239-12E0-4F3F-9817-D69A2F8A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A20-8A7C-49C4-B734-3C3E7A76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FD4-E842-44C5-B845-6FE44897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F3D-6B9A-4FEF-8B3C-DCE63E72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3A3-7316-4D04-A1F5-6BE46B95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5C2-3820-49A3-8669-130E83B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FD0-E4C4-421B-8E5D-ECB7CF3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D0E-AC0E-4E6B-B06F-75A54091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892-E12D-4B1C-AE7F-C6E22088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42EC-0064-471E-9FAC-B0C650AAF7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51480" y="162864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снови физиологије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744360" y="2133720"/>
            <a:ext cx="183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8" descr=""/>
          <p:cNvPicPr/>
          <p:nvPr/>
        </p:nvPicPr>
        <p:blipFill>
          <a:blip r:embed="rId2"/>
          <a:stretch/>
        </p:blipFill>
        <p:spPr>
          <a:xfrm>
            <a:off x="1962000" y="2639880"/>
            <a:ext cx="5492880" cy="2322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192280" y="6095880"/>
            <a:ext cx="301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250920" y="1341360"/>
            <a:ext cx="83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пило за боје везано за Х-хромозом прескаче генерације и јавља се код мушких особа у свакој другој генера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пило за боје може да настане код особа са оштећењем облас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не коре, која контролише колорни вид код људ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хромато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лазна тешкоћа при разликовању плаве и зелене боје настаје као нежељени ефекат при узимању силденафила (Вијагра) у терапији еректилне дисфункције, јер лек инхибише како пенилну, тако и ретиналну фосфодиестеразу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DE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2865600" y="2670120"/>
            <a:ext cx="374328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50920" y="692280"/>
            <a:ext cx="806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битак слуха је најчешћи сензорички поремећај код љу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ма подацима СЗО, преко 270 милиона људи широм света има умерен до веома тежак губитак слуха, при чему четвртина ових поремећаја почиње у детињ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роц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Губитак слуха за високе фреквенције услед изложености јаким звуцима или буци на радном месту, или током активности у слободно време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убитак слуха изазван бук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ед излагања прекомерној буци долази до оштећења унутрашњих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пољашњих ћелија са длачицама, али су спољашње ћелиј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 длачицама осетљив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ототокисн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једини антибиотици (стрептомицин), диуретици (фуросемид) и хемотерапијски агенси базирани на платини (цисплат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е ототоксичне супстанце оштећују спољашње ћелије са длачицама или стрију васкула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генске мутације - мутација за протеин конексин 26 (спречено је нормално кружење јона калијума између потпорних ћел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155736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хлеарни импланти се користе у лечењу деце и одраслих са губитком сл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ближно 188 хиљада људи широм света има кохлеарне импла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ланти се могу користити и код деце почевши од 12 месеци ста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арат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крофон (за прикупљање звука из окружењ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цесор говора (селектује и уређује ове звук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носни сист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јемник–стимулатор (претвара ове звуке у електричне импулсе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лектроде - прослеђују ове импулсе у слушни нер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радњом кохлеарних импланта пацијенти могу научити да повезују сигнале из апарата са звуцима којих се сећ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804000" y="0"/>
            <a:ext cx="270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www.studiopulsar.com/slike/ponuda_implantata/concerto.jpg"/>
          <p:cNvPicPr/>
          <p:nvPr/>
        </p:nvPicPr>
        <p:blipFill>
          <a:blip r:embed="rId1"/>
          <a:stretch/>
        </p:blipFill>
        <p:spPr>
          <a:xfrm>
            <a:off x="5651640" y="4076640"/>
            <a:ext cx="2857320" cy="250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http://www.puznica.hr/images/ci_shema.jpg"/>
          <p:cNvPicPr/>
          <p:nvPr/>
        </p:nvPicPr>
        <p:blipFill>
          <a:blip r:embed="rId2"/>
          <a:stretch/>
        </p:blipFill>
        <p:spPr>
          <a:xfrm>
            <a:off x="395280" y="1268280"/>
            <a:ext cx="5184720" cy="3456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3257280" y="83664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ИЗГЛЕД АПАРАТА И СХЕМАТСКИ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" descr=""/>
          <p:cNvPicPr/>
          <p:nvPr/>
        </p:nvPicPr>
        <p:blipFill>
          <a:blip r:embed="rId1"/>
          <a:stretch/>
        </p:blipFill>
        <p:spPr>
          <a:xfrm>
            <a:off x="828720" y="2670120"/>
            <a:ext cx="7815240" cy="143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68360" y="12682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носм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губитак чула мир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ипосмија ил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ипестезиј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мањена осетљивост чула мир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зроц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азална конгестија или усл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олипи у но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штећење олфакторних нерава услед фрактуре крибриформне 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трауме гл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тумори - неуробластоми или менингео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инфекције респираторног 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продужена употреба назалних деконгест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генитална аносмиј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ђени губитак чула ми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ањење осећаја мириса је повезано за старењ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468360" y="155736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ед блиске повезаности чула мириса и укуса, аносмија је повез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 смањењем осећаја укуса (хипогеуз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случајевима оштећења олфакторног нерва или других неуралних структура олфакторног пута, аносмија је перманент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 са аносмијом су изложене ризику због немогућности да разликују мирисе који потичу од опасних материја (цурење гаса, дим, покварена хр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иперосмиј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овећана осетљивост чула мириса) - физиолошки код труд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изосм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змењена перцепција мириса) - инфекција синуса, делим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штећење олфакторних нерава лоша дентална хигиј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994480" y="1197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ТЕРАПИЈСКЕ СМЕР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9280" y="263700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осмија може бити пролазна (инфекција синуса или прехла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биотици (инфекције изазване полип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ируршки захват (носни полип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окални кортикостеро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289560" y="2276640"/>
            <a:ext cx="2854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1" descr=""/>
          <p:cNvPicPr/>
          <p:nvPr/>
        </p:nvPicPr>
        <p:blipFill>
          <a:blip r:embed="rId1"/>
          <a:stretch/>
        </p:blipFill>
        <p:spPr>
          <a:xfrm>
            <a:off x="1023840" y="2670120"/>
            <a:ext cx="7394760" cy="1438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1798560" y="2670120"/>
            <a:ext cx="5870520" cy="82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68360" y="17002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геуз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недостатак чула 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ипогеузиј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мањена осетљивост чула 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роц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оштећење лингвалног или глософарингеалног нер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уролошки поремећаји (вестибуларни шваном, Белова парализа,     фамилијарна дисаутономија, мултипла склер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инфекције (примарна амебоидна менингоенцефалопатиј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лоша хигијена усне дуп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употреба цитостатика (цисплатин и каптопри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едостатак витамина В3 и ц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употреба ду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611280" y="692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исгеузија или парагеузиј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сећај непријатног укуса) изазива метални, слан, гадан, ужегао у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многим случајевима дисгеузија је пролаз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роци: слични као код агеузије или хипогеу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ћана осетљивост чула укуса (посебно горког)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пертејст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рок: повећани број фунгиформних папила на јез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5940360" y="3645000"/>
            <a:ext cx="2854440" cy="2852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2922120" y="335772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ТЕРАПИЈСКЕ СМЕР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71640" y="4292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бољшање хигијене усне дуп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давање цинка исх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95280" y="1700280"/>
            <a:ext cx="820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ви откри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посолубилни вита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пада породици једињења која се називају ретин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витамина А  је значајан здравствени проблем у земљама у разво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 80.000 особа широм света (највећим делом деца у неразвијеним земљама) годишње изгуби вид због тешког недостатка витамин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3646080" y="404640"/>
            <a:ext cx="137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итамин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4788000" y="189000"/>
            <a:ext cx="706320" cy="896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upload.wikimedia.org/wikipedia/commons/0/09/Retinol.png"/>
          <p:cNvPicPr/>
          <p:nvPr/>
        </p:nvPicPr>
        <p:blipFill>
          <a:blip r:embed="rId2"/>
          <a:stretch/>
        </p:blipFill>
        <p:spPr>
          <a:xfrm>
            <a:off x="611280" y="4221000"/>
            <a:ext cx="5162400" cy="1773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62120" y="61657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емијска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646080" y="404640"/>
            <a:ext cx="137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итамин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4788000" y="189000"/>
            <a:ext cx="706320" cy="89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Резултат слика за vitamin A"/>
          <p:cNvPicPr/>
          <p:nvPr/>
        </p:nvPicPr>
        <p:blipFill>
          <a:blip r:embed="rId2"/>
          <a:stretch/>
        </p:blipFill>
        <p:spPr>
          <a:xfrm>
            <a:off x="2556000" y="4149720"/>
            <a:ext cx="3754440" cy="2033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148428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витамина А изазива недовољан унос намирница које су богате витамином А (јетра, бубрези, јаја, млеко, павлака и сир),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β-каротено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курсором витамина А (жуто или наранџасто воће и поврћ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од најранијих поремећаја који настају услед недостатка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је ноћно слепило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кталоп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430080" y="765000"/>
            <a:ext cx="137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итамин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4572000" y="476280"/>
            <a:ext cx="706320" cy="898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395280" y="1628640"/>
            <a:ext cx="820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витамина А такође доприноси настајању слепила услед израженог исушивања ока, које оштећује рожњачу (ксерофталмија) и мрежња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тн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остата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тамина А ремети функцију штапића и чеп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готрајан недостатак витамина А изазива анатомске промене штапића и чепића које су праћене дегенерацијом неуронских слојева мрежњ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* На овом месту је корисно да се сетите преда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1700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чење витамином А може да поврати функцију мрежњаче уколико рецептори нису оштећ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нос хране богате витамином 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јетра, пилетина, говедина, јаја, пуномасно млеко, шаргарепа, спана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љ и друго зелено повр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Унос витамина В-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1" descr=""/>
          <p:cNvPicPr/>
          <p:nvPr/>
        </p:nvPicPr>
        <p:blipFill>
          <a:blip r:embed="rId1"/>
          <a:stretch/>
        </p:blipFill>
        <p:spPr>
          <a:xfrm>
            <a:off x="2627280" y="2670120"/>
            <a:ext cx="4218120" cy="82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96480" y="620640"/>
            <a:ext cx="364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казивање слепила за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50920" y="134136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шихар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hihar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еле - таблице на којима су облици сачињени од обојених тачака на подлози од обојених тачака истог о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ици су намерно направљени од боја које особама које су слепе за боје изгледају исто као и под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једине особе које су слепе за боје уопште не разликују неке боје, а неке имају тешкоће при разликовању б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static7.depositphotos.com/1185195/677/v/950/depositphotos_6776121-Complete-Ishihara-Color-Test-Plates.jpg"/>
          <p:cNvPicPr/>
          <p:nvPr/>
        </p:nvPicPr>
        <p:blipFill>
          <a:blip r:embed="rId1"/>
          <a:stretch/>
        </p:blipFill>
        <p:spPr>
          <a:xfrm>
            <a:off x="2700360" y="3357720"/>
            <a:ext cx="35701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250920" y="1341360"/>
            <a:ext cx="835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фикси „прот“, „деутер“ и „трит“ односе се на оштећење система чепића за црвену, зелену и плаву бо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е са нормалним колорним видом називају се трихром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хромати су особе које имају само два система чепића, и могу да имај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отанопиј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деутеранопиј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тритано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охромати имају само један систем чепић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хромати могу да мењају свој спектар боја мешањем две примарне боје, а монохромати мењају свој спектар изменом интензитета само једне бо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х</cp:lastModifiedBy>
  <dcterms:modified xsi:type="dcterms:W3CDTF">2019-03-24T19:50:56Z</dcterms:modified>
  <cp:revision>62</cp:revision>
  <dc:subject/>
  <dc:title>ИНТЕГРИСАНЕ АКАДЕМСКЕ СТУДИЈЕ ФАРМАЦИЈЕ  Г04 – Медицинска хемија и дизајн лекова 2</dc:title>
</cp:coreProperties>
</file>